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728-5AF1-45CD-9291-04041BEE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AE4-6BC6-4D7C-9EC6-7A376CB8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84D-12AD-49AB-9CEF-919346E0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433-9AA4-471C-8538-121CBBC1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88F-644E-4D06-9B65-EE7841A6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35A-E98C-4F42-B90D-E3B98EBC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5A6-ED3F-410C-958E-777FF6D3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517-DD19-423D-9239-1EF04FD2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E33-A688-4452-92E4-BFEF227D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111-4F7D-43C6-98E5-23086BA3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0CA-A656-45AB-A0EB-39041B3E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16D-E8FE-4F2E-BC9B-E7AD523F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55D8-0C37-453C-847A-B14FD6BD1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O NOTES:  Dave Pel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roduct Image"/>
          <p:cNvPicPr/>
          <p:nvPr/>
        </p:nvPicPr>
        <p:blipFill>
          <a:blip r:embed="rId1"/>
          <a:stretch/>
        </p:blipFill>
        <p:spPr>
          <a:xfrm rot="21306600">
            <a:off x="304560" y="1653840"/>
            <a:ext cx="3581280" cy="520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91120" y="21337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Powerpoint  to Collect and Organize Your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early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ly, mentally, verbally, and emotionally abused by his alcoholic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ed with small disciplinary consequences (sitting in the corner) and changed to burns and bruises (Pelzer, 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pping my arm, Mother held it in the orange-blue flame. My skin seemed toe explode from the heat.  I could smell the scorched hairs from my burnt arm.” (Pelzer, 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early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se gradually came from his brothers also; took advantage of him and viewed him as a family slave with continual bullying (Pelzer, 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y approached me, my heart became hard as tone, and I am sure that they saw the hate etched in my face.” (Pelzer, 1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re his challenges in his adult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ed the Air Force at age 18; flew plans that refueled the SR-71 Blackbird and f-117 Stealth Fighters, both used in highly secretive military operations in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ed to deal with the consequences of his abuse as an adult and had a goal of making himself a better person (“All About Dave Pelzer.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About Dave Pelzer.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ve Pelzer - The Offici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p., n.d. Web. 7 Feb. 20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tp://www.davepelzer.com/about.html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zer, David J.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child called "it": an abused child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ey from victim to vi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erfield Be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.: Health Communications, 1995.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id he overcome his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hallenge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was his life different after the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velation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What did he learn about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velations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 How does he pay it fo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6:15:46Z</dcterms:created>
  <dc:creator>jtunison</dc:creator>
  <dc:description/>
  <dc:language>en-US</dc:language>
  <cp:lastModifiedBy>jtunison</cp:lastModifiedBy>
  <dcterms:modified xsi:type="dcterms:W3CDTF">2013-02-07T17:18:49Z</dcterms:modified>
  <cp:revision>3</cp:revision>
  <dc:subject/>
  <dc:title>Challenges  –  What were his challenges?</dc:title>
</cp:coreProperties>
</file>